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501B-8BA3-41DD-BB75-C44E7493E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484C-8FA9-431B-A783-E7AC18E85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8D7B-19B2-4119-8C67-AA5A800CC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4C3A-891B-497E-ABE5-C0CDEDF31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48A5E-3F94-4F82-A475-6163A7577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D4D16-32B2-4901-BFD2-25904C3C8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B3E1C-B2F3-4925-8CD9-2C757D8D0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6A68C-B2CB-473C-AFBD-A7FD45F0B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8FF94-BB69-4C7C-9F98-7E0E95AE0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4CEA5-28C1-40AB-8906-8DE98A192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3936E-8FFB-46A6-9643-C9D38A04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80EA-0D0F-4228-9F2F-36D041669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A0D74-A80D-4B68-B784-E3B0DBB9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5B703-AF40-4C80-BF6E-630F8F9F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CA5B9-BC09-438D-A05E-9AE6E26C8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6FF8C-1D1A-4DD9-87B0-41F781BE7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F7D32-0F2B-4506-86A8-C9E62837C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D63C90-8B41-48EA-B04D-860D5DBAA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3E6AF9-D74D-497D-BEF4-0A6495939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1C8F5B-2B2B-407C-9F12-F0BC2D0C5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5D7069-19B2-47F8-B47A-75B7F8840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9E33E5-196C-41FB-AF7A-AA317241B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3BE3-E69A-4B8B-8060-2800C11C7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787CBE-1ECA-437E-9920-282FA2849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9D051B-4BDF-4C7B-A59A-9D20704B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9554BF-2F38-4910-8CD4-547DD8AB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B6C5E6-40C9-4B9E-8EDF-C0B81C51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C1386F-697B-4279-ADDA-0E6761925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85D7AD-7EBE-43EF-B316-ADEA7AEF2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2B8322-BC43-4FEA-87A5-ADE101D80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963A9-8B9D-406E-AF62-E484F8E8A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51C51-1F53-4CF2-8904-604489A64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6392C-6277-42A0-ABF7-B03728E79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225A-D1FD-4B9A-9144-370CA0B22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95D85-5A29-4CD8-AD53-D4B0D5D44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531AA-FC36-4836-896D-DB74AE16E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B9EE8-ADCF-4EFC-865B-C057B4A56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E1BA6-F39C-42C0-9C5C-0855ECD7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8D691-8C43-47FF-AD1B-AE366FA7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E2D6C-BAB2-4CA4-B48E-ADAF8D50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CB029-8CBB-458B-9EDA-F19AD18CA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AA395-32D6-4AFB-9F78-0998799E3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8CC22-FA11-4DB6-B813-CEF9885AC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BFF1E1-7657-4BF5-AE90-4D4DDEFCA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69CC-46E8-4005-88F6-4C577B330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8E6611-D03E-4FC5-8CDE-F6BC334A3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014BFA-160E-45AC-B0CF-6E48444E8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1A93BE-A2B6-45BD-9FAD-8F54290DD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FC4398-165D-4520-9878-3C461A238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A632BC-1533-402B-AA3B-87F739F71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A1B7D3-0A17-4CB6-BC55-7114BB7C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C9F16A-7E17-4CA9-A24D-E946BFBE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457BA6-097F-4386-A9CF-00D7A5FF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BC0FCA-1805-43F3-A0B3-370E19D7C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D16399-B5B1-4355-8C7B-5D74060B9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D1E5-17C4-4657-8EA2-271B7B409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1471B1-F3C2-4530-9D8A-7C0D2431D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704BC1-5BC7-4F06-A519-F5D5958D5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9F2764-A27A-44F7-9A7A-448933E47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DB3A29-54CD-4760-B803-2BDBE1D37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7105B8-DA27-480D-A388-4F96C220F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D9C955-2376-47CD-96D7-197EB59F5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28ED59-F3FD-4A36-8668-C0C2B0A47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0AE179-C43D-4FBA-9384-C627AD73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F31C2B-6085-48F9-8208-BC9BB9E9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979FB1-E0C8-4FEA-952A-9FD77195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C50D-C91A-47B0-BB48-19205C59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8EF949-517E-4DF3-AB19-39479F76B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A8F8AC-AA11-44CA-BB8E-EBFA88A07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E57639-E3DC-4E79-9C34-16F0238F6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2A4704-8A8A-48C7-9062-44BE62113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3CF2BD-E91A-490B-B6B3-DF2C3ECFF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1B2E6C-EAEC-4840-9201-DF4EC09A2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E4658E-9922-4C62-BE72-76E1460BB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BB7296-5592-446A-B32B-30C161F24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18FBE1-6971-4909-9BBE-8782F3D60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3BFA6B-8E7C-4516-8189-D2C9FDF5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2549-13B8-45D1-BBD9-67FB58CC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6AD0B0-46F3-4AD2-9717-44C7E0B0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555734-4041-4E27-813B-9360C0A5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D247CD-B7A2-4573-9C4D-BB3957352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17FFE1-092F-4F66-A88C-72BA361DF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667D0D-E001-4B9D-A3E1-E8A51F466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E195-8D82-4DB8-86DE-0CC2D08D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F3E65-E4C9-4434-945E-E046652DA57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0318A-CE7B-4A4D-AFF6-F50CD429C65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6348B-80A3-43AF-8233-C4AD169CEAD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CDE19-965D-46C1-A719-5D496D87F9A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DF2E7-DB33-4742-910A-11CF3463AF2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937C1-7F3C-4DD9-B325-B7B892DBEDC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91696-E103-4EA9-9774-1060D27C73A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D:\SACH Y HOC\UpToDate\contents\mobipreview.htm" TargetMode="External"/><Relationship Id="rId2" Type="http://schemas.openxmlformats.org/officeDocument/2006/relationships/hyperlink" Target="file:///D:\SACH Y HOC\UpToDate\contents\mobipreview.htm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D:\SACH Y HOC\UpToDate\contents\mobipreview.htm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8991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PATIENT PREPARATION BEFORE CONTRAST ENEMA IN HIRSCHSPRUNG DIAGNOSIS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7543440" y="6273360"/>
            <a:ext cx="16002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alibri"/>
                <a:ea typeface="Calibri"/>
              </a:rPr>
              <a:t>21-01-2014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Calibri"/>
                <a:ea typeface="Calibri"/>
              </a:rPr>
              <a:t>CONTRAST ENEMA - FALSE NEGATIVE RESULT</a:t>
            </a:r>
            <a:br>
              <a:rPr sz="27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75c01"/>
                </a:solidFill>
                <a:latin typeface="Calibri"/>
                <a:ea typeface="Calibri"/>
              </a:rPr>
              <a:t>Transition zone (-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Young infant (&lt;1m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otal aganglionos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leanse the colon in 24-48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he catheter has been placed above the transition zon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Enterocolit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75c01"/>
                </a:solidFill>
                <a:latin typeface="Calibri"/>
                <a:ea typeface="Calibri"/>
              </a:rPr>
              <a:t>Rectal sigmoid index (-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Digital rectal examination in 24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2413080" cy="31240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4" descr=""/>
          <p:cNvPicPr/>
          <p:nvPr/>
        </p:nvPicPr>
        <p:blipFill>
          <a:blip r:embed="rId2"/>
          <a:stretch/>
        </p:blipFill>
        <p:spPr>
          <a:xfrm>
            <a:off x="457200" y="3733920"/>
            <a:ext cx="8194680" cy="19047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5" descr=""/>
          <p:cNvPicPr/>
          <p:nvPr/>
        </p:nvPicPr>
        <p:blipFill>
          <a:blip r:embed="rId3"/>
          <a:stretch/>
        </p:blipFill>
        <p:spPr>
          <a:xfrm>
            <a:off x="3581280" y="533520"/>
            <a:ext cx="42768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752480" y="7617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  <a:ea typeface="Calibri"/>
              </a:rPr>
              <a:t>CONGENITAL AGANGLIONIC MEGACOLON (HIRSCHSPRUNG DISEASE)</a:t>
            </a:r>
            <a:br>
              <a:rPr sz="27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380880" y="26668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ontrast enema is less sensitive than rectal suction biopsy and anorectal manometry for the diagnosis of HD (</a:t>
            </a:r>
            <a:r>
              <a:rPr b="0" lang="en-US" sz="2800" spc="-1" strike="noStrike" u="sng">
                <a:solidFill>
                  <a:srgbClr val="d2611c"/>
                </a:solidFill>
                <a:uFillTx/>
                <a:latin typeface="Calibri"/>
                <a:ea typeface="Calibri"/>
                <a:hlinkClick r:id="rId1"/>
              </a:rPr>
              <a:t>table 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) [</a:t>
            </a:r>
            <a:r>
              <a:rPr b="0" lang="en-US" sz="2800" spc="-1" strike="noStrike" u="sng">
                <a:solidFill>
                  <a:srgbClr val="d2611c"/>
                </a:solidFill>
                <a:uFillTx/>
                <a:latin typeface="Calibri"/>
                <a:ea typeface="Calibri"/>
                <a:hlinkClick r:id="rId2"/>
              </a:rPr>
              <a:t>29,38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].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A digital rectal examination within a few days of the contrast enema may dilate the rectum and cause a false negative result”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1" name="Picture 3" descr="UpToDate-20-146x180.jpg"/>
          <p:cNvPicPr/>
          <p:nvPr/>
        </p:nvPicPr>
        <p:blipFill>
          <a:blip r:embed="rId3"/>
          <a:stretch/>
        </p:blipFill>
        <p:spPr>
          <a:xfrm>
            <a:off x="380880" y="647640"/>
            <a:ext cx="1390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981080" y="761760"/>
            <a:ext cx="7010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  <a:ea typeface="Calibri"/>
              </a:rPr>
              <a:t>CONSTIPATION IN CHILDREN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Calibri"/>
                <a:ea typeface="Calibri"/>
              </a:rPr>
              <a:t>ETIOLOGY AND DIAGNOSIS</a:t>
            </a:r>
            <a:br>
              <a:rPr sz="32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80880" y="25142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nfants with significant constipation from the neonatal period, especially those with delayed passage of meconium — Perform a </a:t>
            </a:r>
            <a:r>
              <a:rPr b="0" lang="en-US" sz="2800" spc="-1" strike="noStrike" u="sng">
                <a:solidFill>
                  <a:srgbClr val="d2611c"/>
                </a:solidFill>
                <a:uFillTx/>
                <a:latin typeface="Calibri"/>
                <a:ea typeface="Calibri"/>
                <a:hlinkClick r:id="rId1"/>
              </a:rPr>
              <a:t>barium</a:t>
            </a:r>
            <a:r>
              <a:rPr b="0" lang="en-US" sz="2800" spc="-1" strike="noStrike" u="sng">
                <a:solidFill>
                  <a:srgbClr val="002060"/>
                </a:solidFill>
                <a:uFillTx/>
                <a:latin typeface="Calibri"/>
                <a:ea typeface="Calibri"/>
              </a:rPr>
              <a:t> enema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("unprepped", ie, without measures to remove stool from the rectum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to investigate the possibility of Hirschsprung disease ”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4" name="Picture 3" descr="UpToDate-20-146x180.jpg"/>
          <p:cNvPicPr/>
          <p:nvPr/>
        </p:nvPicPr>
        <p:blipFill>
          <a:blip r:embed="rId2"/>
          <a:stretch/>
        </p:blipFill>
        <p:spPr>
          <a:xfrm>
            <a:off x="380880" y="571680"/>
            <a:ext cx="13906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CONTRAST ENEMA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No colon preparation of any typ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No dietary restric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No digital rectal examination within 24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No enterocolit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CONCLUSIO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atient preparation process before contrast enem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For patient with enterocolitis or recent rectal biopsy: treat well before contrast enem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For patient without enterocolit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No signs of clinical fecal stagnation: do unprepared contrast enem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With signs of clinical fecal stagnation: wash out or use laxatives to cleanse bowel, then stop at least 24h before contrast enem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REFERENCES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iro Yoshida, Jr, MD. Hirschsprung Disease Imaging. Medscape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Kristin Fiorino, Chris A. Liacouras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ongenital Aganglionic Megacolon (Hirschsprung Disease)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. Nels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nne-Marie Dixon. The abdomen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aediatic Radiography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David E Wesson, MD.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ongenital aganglionic megacolon (Hirschsprung disease). UpToDa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74678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575f6d"/>
                </a:solidFill>
                <a:latin typeface="Calibri"/>
                <a:ea typeface="Calibri"/>
              </a:rPr>
              <a:t>THANK YOU !!!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CONTENT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linical assessmen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iagnostic test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OVERVIEW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Hirschspung disease (HD): congenital aganglionic megacolon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Etiology: failure of migration of ganglion cells along the gastrointestinal tract during the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through 1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weeks of embryonic development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Genetic abnormality: del 10 (q11.21,q21.2), trisomy 18,21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1/5000 children, male/female: 4/1 – 1/1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omplication: enterocolitis, sepsis, intestinal perforation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CLINICAL ASSESSMENT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Rounded Rectangle 3"/>
          <p:cNvSpPr/>
          <p:nvPr/>
        </p:nvSpPr>
        <p:spPr>
          <a:xfrm>
            <a:off x="2971800" y="1066680"/>
            <a:ext cx="2971800" cy="68580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Suspected Hirschspru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Straight Connector 5"/>
          <p:cNvSpPr/>
          <p:nvPr/>
        </p:nvSpPr>
        <p:spPr>
          <a:xfrm>
            <a:off x="2209680" y="2057400"/>
            <a:ext cx="4267440" cy="1440"/>
          </a:xfrm>
          <a:prstGeom prst="line">
            <a:avLst/>
          </a:prstGeom>
          <a:ln w="2556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60" name="Elbow Connector 20"/>
          <p:cNvCxnSpPr>
            <a:stCxn id="358" idx="2"/>
          </p:cNvCxnSpPr>
          <p:nvPr/>
        </p:nvCxnSpPr>
        <p:spPr>
          <a:xfrm flipH="1" rot="16200000">
            <a:off x="4323240" y="1885680"/>
            <a:ext cx="305640" cy="38520"/>
          </a:xfrm>
          <a:prstGeom prst="bentConnector3">
            <a:avLst>
              <a:gd name="adj1" fmla="val 96108"/>
            </a:avLst>
          </a:prstGeom>
          <a:ln w="25560">
            <a:solidFill>
              <a:srgbClr val="ff6903"/>
            </a:solidFill>
            <a:miter/>
          </a:ln>
        </p:spPr>
      </p:cxnSp>
      <p:cxnSp>
        <p:nvCxnSpPr>
          <p:cNvPr id="361" name="Straight Arrow Connector 24"/>
          <p:cNvCxnSpPr/>
          <p:nvPr/>
        </p:nvCxnSpPr>
        <p:spPr>
          <a:xfrm flipH="1">
            <a:off x="2208960" y="2057040"/>
            <a:ext cx="2520" cy="30564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cxnSp>
        <p:nvCxnSpPr>
          <p:cNvPr id="362" name="Straight Arrow Connector 25"/>
          <p:cNvCxnSpPr/>
          <p:nvPr/>
        </p:nvCxnSpPr>
        <p:spPr>
          <a:xfrm flipH="1">
            <a:off x="6476760" y="2057040"/>
            <a:ext cx="2160" cy="30564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sp>
        <p:nvSpPr>
          <p:cNvPr id="363" name="Rounded Rectangle 26"/>
          <p:cNvSpPr/>
          <p:nvPr/>
        </p:nvSpPr>
        <p:spPr>
          <a:xfrm>
            <a:off x="990720" y="2362320"/>
            <a:ext cx="2743200" cy="53316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High suspic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Rounded Rectangle 27"/>
          <p:cNvSpPr/>
          <p:nvPr/>
        </p:nvSpPr>
        <p:spPr>
          <a:xfrm>
            <a:off x="5105520" y="2362320"/>
            <a:ext cx="2743200" cy="53316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Low suspic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65" name="Straight Arrow Connector 28"/>
          <p:cNvCxnSpPr/>
          <p:nvPr/>
        </p:nvCxnSpPr>
        <p:spPr>
          <a:xfrm flipH="1">
            <a:off x="2208960" y="2895480"/>
            <a:ext cx="2520" cy="45792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sp>
        <p:nvSpPr>
          <p:cNvPr id="366" name="Rounded Rectangle 30"/>
          <p:cNvSpPr/>
          <p:nvPr/>
        </p:nvSpPr>
        <p:spPr>
          <a:xfrm>
            <a:off x="304920" y="3352680"/>
            <a:ext cx="4419360" cy="114300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Enterocolitis 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Symp: fever, vomiting, diarrhea, abdominal distension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Stool exam: RBC, WBC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Plain xray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67" name="Straight Arrow Connector 32"/>
          <p:cNvCxnSpPr/>
          <p:nvPr/>
        </p:nvCxnSpPr>
        <p:spPr>
          <a:xfrm flipH="1">
            <a:off x="1294560" y="4495680"/>
            <a:ext cx="839160" cy="53424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cxnSp>
        <p:nvCxnSpPr>
          <p:cNvPr id="368" name="Straight Arrow Connector 34"/>
          <p:cNvCxnSpPr/>
          <p:nvPr/>
        </p:nvCxnSpPr>
        <p:spPr>
          <a:xfrm>
            <a:off x="2133720" y="4495680"/>
            <a:ext cx="838800" cy="53424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sp>
        <p:nvSpPr>
          <p:cNvPr id="369" name="TextBox 36"/>
          <p:cNvSpPr/>
          <p:nvPr/>
        </p:nvSpPr>
        <p:spPr>
          <a:xfrm>
            <a:off x="1219320" y="4495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TextBox 37"/>
          <p:cNvSpPr/>
          <p:nvPr/>
        </p:nvSpPr>
        <p:spPr>
          <a:xfrm>
            <a:off x="2590920" y="44956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Rounded Rectangle 38"/>
          <p:cNvSpPr/>
          <p:nvPr/>
        </p:nvSpPr>
        <p:spPr>
          <a:xfrm>
            <a:off x="304920" y="5029200"/>
            <a:ext cx="1600200" cy="45720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reatm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Rounded Rectangle 39"/>
          <p:cNvSpPr/>
          <p:nvPr/>
        </p:nvSpPr>
        <p:spPr>
          <a:xfrm>
            <a:off x="2286000" y="5029200"/>
            <a:ext cx="2362320" cy="45720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Contrast  enem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73" name="Straight Arrow Connector 41"/>
          <p:cNvCxnSpPr>
            <a:stCxn id="371" idx="3"/>
            <a:endCxn id="372" idx="1"/>
          </p:cNvCxnSpPr>
          <p:nvPr/>
        </p:nvCxnSpPr>
        <p:spPr>
          <a:xfrm>
            <a:off x="1905120" y="5257800"/>
            <a:ext cx="381600" cy="216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cxnSp>
        <p:nvCxnSpPr>
          <p:cNvPr id="374" name="Straight Arrow Connector 42"/>
          <p:cNvCxnSpPr>
            <a:stCxn id="364" idx="2"/>
            <a:endCxn id="375" idx="0"/>
          </p:cNvCxnSpPr>
          <p:nvPr/>
        </p:nvCxnSpPr>
        <p:spPr>
          <a:xfrm flipH="1">
            <a:off x="6474600" y="2897280"/>
            <a:ext cx="3960" cy="91512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sp>
        <p:nvSpPr>
          <p:cNvPr id="375" name="Rounded Rectangle 43"/>
          <p:cNvSpPr/>
          <p:nvPr/>
        </p:nvSpPr>
        <p:spPr>
          <a:xfrm>
            <a:off x="5105520" y="3809880"/>
            <a:ext cx="2743200" cy="60984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Plain abdominal radiograp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76" name="Shape 49"/>
          <p:cNvCxnSpPr>
            <a:stCxn id="375" idx="2"/>
          </p:cNvCxnSpPr>
          <p:nvPr/>
        </p:nvCxnSpPr>
        <p:spPr>
          <a:xfrm rot="5400000">
            <a:off x="5028480" y="3810240"/>
            <a:ext cx="838800" cy="2057760"/>
          </a:xfrm>
          <a:prstGeom prst="bentConnector2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cxnSp>
        <p:nvCxnSpPr>
          <p:cNvPr id="377" name="Straight Arrow Connector 50"/>
          <p:cNvCxnSpPr/>
          <p:nvPr/>
        </p:nvCxnSpPr>
        <p:spPr>
          <a:xfrm flipH="1">
            <a:off x="3123360" y="5410080"/>
            <a:ext cx="2520" cy="45792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sp>
        <p:nvSpPr>
          <p:cNvPr id="378" name="Rounded Rectangle 51"/>
          <p:cNvSpPr/>
          <p:nvPr/>
        </p:nvSpPr>
        <p:spPr>
          <a:xfrm>
            <a:off x="2514600" y="5867280"/>
            <a:ext cx="1447920" cy="68580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Consult surger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9" name="TextBox 52"/>
          <p:cNvSpPr/>
          <p:nvPr/>
        </p:nvSpPr>
        <p:spPr>
          <a:xfrm>
            <a:off x="4648320" y="4648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No stool i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lower rectum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CLINICAL ASSESSMENT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75c01"/>
                </a:solidFill>
                <a:latin typeface="Calibri"/>
                <a:ea typeface="Calibri"/>
              </a:rPr>
              <a:t>High suspic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onstipation, an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Delayed passage of meconium (&gt;= 48h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bdominal distens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Down’s syndrom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ight anal canal and rectal vault, “squirt sign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75c01"/>
                </a:solidFill>
                <a:latin typeface="Calibri"/>
                <a:ea typeface="Calibri"/>
              </a:rPr>
              <a:t>Low suspic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rolonged constipation and none of these featur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DIAGNOSTIC TEST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4" name="Picture 1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7238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DIAGNOSTIC TEST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ontrast enema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initial diagnostic procedur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Biops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confirm the diagnos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CONTRAST ENEMA - SIG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Transition zone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bnormal, irregular contractions of aganglionic segment –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rectal sigmoid index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hickening and nodularity of colonic mucosa proximal to transition zon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Delayed evacuation of bariu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Mixed barium-stool pattern on delayed radiograph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Distended bowel loops on plain radiographs that almost fill after contrast enem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Question mark–shaped colon in total colonic aganglionos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3386160" cy="4343400"/>
          </a:xfrm>
          <a:prstGeom prst="rect">
            <a:avLst/>
          </a:prstGeom>
          <a:ln w="0">
            <a:noFill/>
          </a:ln>
        </p:spPr>
      </p:pic>
      <p:sp>
        <p:nvSpPr>
          <p:cNvPr id="391" name="TextBox 4"/>
          <p:cNvSpPr/>
          <p:nvPr/>
        </p:nvSpPr>
        <p:spPr>
          <a:xfrm>
            <a:off x="990720" y="54100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Transition zon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2" name="Picture 45" descr="Hirschsprung disease. Lateral view from a barium e"/>
          <p:cNvPicPr/>
          <p:nvPr/>
        </p:nvPicPr>
        <p:blipFill>
          <a:blip r:embed="rId2"/>
          <a:stretch/>
        </p:blipFill>
        <p:spPr>
          <a:xfrm>
            <a:off x="4724280" y="1219320"/>
            <a:ext cx="3988080" cy="3209760"/>
          </a:xfrm>
          <a:prstGeom prst="rect">
            <a:avLst/>
          </a:prstGeom>
          <a:ln w="0">
            <a:noFill/>
          </a:ln>
        </p:spPr>
      </p:pic>
      <p:sp>
        <p:nvSpPr>
          <p:cNvPr id="393" name="TextBox 6"/>
          <p:cNvSpPr/>
          <p:nvPr/>
        </p:nvSpPr>
        <p:spPr>
          <a:xfrm>
            <a:off x="4800600" y="48006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Rectal sigmoid index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3T16:02:29Z</dcterms:created>
  <dc:creator>Win7</dc:creator>
  <dc:description/>
  <dc:language>en-US</dc:language>
  <cp:lastModifiedBy>AVENIS</cp:lastModifiedBy>
  <dcterms:modified xsi:type="dcterms:W3CDTF">2014-01-21T00:24:22Z</dcterms:modified>
  <cp:revision>68</cp:revision>
  <dc:subject/>
  <dc:title>ASSESSMENT FOR HIRSCHSPRUNG DISEASE AT</dc:title>
</cp:coreProperties>
</file>